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05F-12FB-4426-931B-F8BCB1C6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9EF-E169-462C-AFEF-B67075FD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086-71DF-405E-9047-2A34C04F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AB0-EA9D-46E0-B24B-81743DCB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7297-8232-4239-811F-2EB72BE6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91D7-F16E-4909-924D-7DE5DCEB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E2DB-2558-481C-B7E9-86C12BB0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AF28-C58E-4EF5-92E4-7730F756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75A6-13F4-42D8-B571-D301A190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2031-4730-4AA1-9528-BC9542EC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4F29-EB0B-427B-8927-A47402D5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111-A897-4DAA-BAC5-C94C551A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060A-AA41-4B79-AC23-B1E07A9B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E68E-69AA-4877-A561-A8BAA23A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207F-1A81-44F5-B429-EE85682D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15D3-905E-4389-AF0F-2D8285B4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41D5-9ED1-4EBE-9605-B071D7CF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A04-DC67-4A0B-BD5A-419F129A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871-B8AE-4924-A091-8F2ADC38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D65-1F86-4683-B305-2AE0C704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159-8B84-4562-984F-E5B512BF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D8A-114D-4790-9A09-2F51E4F9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952-7601-4948-8426-E9D25ECD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C98-E808-4FDF-9A5A-8467D739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FAF9-1C25-4B10-ABC8-7B27496760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955E-58AB-4CC7-8897-B8DD7AFFAC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atholic Piety, Leisure, and Recre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ler Kehoe &amp; Jake Berly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u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ucated El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culture, such as festivals, among common people increa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ite had previously shared excitement for popular culture but now saw its vulgarity, sin and disor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paration in the educated upper class and the common people played a role in future class confli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tholic Pie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holics- More baroque 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stants- Less emotional 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gion still practiced by most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95% of people still practic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holic religion brought unity through processions and holiday festiv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oliday atmosphere sometimes reigned on longer processions, with drinking and dancing and couples disappearing into the woods.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Holiday Atmosphe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oliday atmosphere sometimes reigned on longer processions, with drinking and dancing and couples disappearing into the woods.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to draw the lin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ests who want to purify Cathlolic Church who discarded paganistic holiday views. (basically get rid of religious holiday celebration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lergy who thought the piety of the Catholic Church should be more relaxed and let 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esult!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iests of the Catholic Church realized that there was no compromise with the clergy and varied by terri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ph I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1431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isure and Recre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ni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ligious celebration seen in festivals and processions in the Catholic areas around Mediterranean Euro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nival came before Lent on a few days in February or M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a wild release of frustration through drinking masquerading and dancing that could be enjoyed before the sacrifices of L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veryday Leis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socialized in groups due to the culture being more oral than writ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es sat around fireplaces and told stories, sang, danced,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 drank in public places; most towns had a tav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gathered in someone’s house and talked, sewed, and discussed possible suitors for the younger wo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musement in Cities/Tow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Urban Fairs which offered food, circuses, optical illusions and open air performanc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tator Sports such as horse races, boxing matches, and bullfigh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racted all social cla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rcialization of amusement in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- events paid 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 S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lba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bull staked to a chain in a courtyard at an inn 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ed by dogs for clients amus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ckf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ters trained by owners and armed with spur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placed in a small ring and fought to the 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jured or dead animals were butchered and sold as m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2:43Z</dcterms:created>
  <dc:creator>MNS</dc:creator>
  <dc:description/>
  <dc:language>en-US</dc:language>
  <cp:lastModifiedBy>MNS</cp:lastModifiedBy>
  <dcterms:modified xsi:type="dcterms:W3CDTF">2009-12-07T15:06:57Z</dcterms:modified>
  <cp:revision>6</cp:revision>
  <dc:subject/>
  <dc:title>Catholic Piety, Leisure, and Recreation</dc:title>
</cp:coreProperties>
</file>